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92834"/>
        <c:axId val="98360646"/>
      </c:barChart>
      <c:catAx>
        <c:axId val="95292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0646"/>
        <c:crosses val="autoZero"/>
        <c:auto val="1"/>
        <c:lblAlgn val="ctr"/>
        <c:lblOffset val="100"/>
        <c:noMultiLvlLbl val="0"/>
      </c:catAx>
      <c:valAx>
        <c:axId val="98360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92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72E-4357-423C-8869-9B6FCC7D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591-B1BB-4AE6-AF58-D643788A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7B1-8783-4918-B046-DFCABA1A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431-C24E-4F49-8F76-30AED9C4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E94-80C8-440F-9415-ADA072B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149-1C86-40C1-8786-63166521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2F3-61A9-4F82-90BE-DE51F22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100-F3CD-437C-A1C5-EEEE843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C4E-6305-4032-B7ED-DC0C8E2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4AB-03D1-4502-B538-A9E7919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763-BC2A-44FE-B2EC-4E1E6EF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2C5-C6DB-4219-B55E-FB3740F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D9619-4DF5-4206-9EDE-7C4DF4F041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