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3458"/>
        <c:axId val="77616126"/>
      </c:barChart>
      <c:catAx>
        <c:axId val="24233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16126"/>
        <c:crosses val="autoZero"/>
        <c:auto val="1"/>
        <c:lblAlgn val="ctr"/>
        <c:lblOffset val="100"/>
        <c:noMultiLvlLbl val="0"/>
      </c:catAx>
      <c:valAx>
        <c:axId val="77616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3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76A-712A-49BD-9432-F6C2582C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8AE-C3D3-4D76-80D2-820E71C3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09D-4B5F-4D5A-93EA-907A6B83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812-53C6-407B-994B-EE03FB81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6BB-4913-46AE-BC58-89936B72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C61-3E5A-48A9-90B0-7CEE5E45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2A7-26C4-4CBA-9CAC-DA56103F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530-52D3-415F-9849-BCF1B247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61D-A540-4FAF-BF64-6BA7D0E4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12E-572B-4685-B0D2-1170EFE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7B2-18CD-4844-A987-C755956B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639-0D38-43BD-8997-93709076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256A-E9A5-448F-B532-29F5530BBE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