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33319"/>
        <c:axId val="84518539"/>
      </c:barChart>
      <c:catAx>
        <c:axId val="92533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18539"/>
        <c:crosses val="autoZero"/>
        <c:auto val="1"/>
        <c:lblAlgn val="ctr"/>
        <c:lblOffset val="100"/>
        <c:noMultiLvlLbl val="0"/>
      </c:catAx>
      <c:valAx>
        <c:axId val="84518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33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95E9-7947-40DC-9FEF-3E24E8C5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BE9-1209-446C-9E20-7DFB7D7A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7E0-72C1-4DA5-8ADF-DBA1D38B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B58-C2A1-43F3-95D5-A3E736D6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44B-7586-451E-A49A-D73161BC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739-5B78-4BB5-B87F-3C9738D7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A110-47F7-4695-8A19-BAEA6A97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8BF-5E52-496C-9165-05DD5479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0CA-5E30-4249-83DA-B46602A6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AFF-9AF6-4E08-93C2-32F68AA9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421-E326-411F-97DC-5834630A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DAE-C1CF-49DA-80F2-CFF79357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FE0BF-4C2B-4AF7-BA33-84FD508F28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