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61903"/>
        <c:axId val="23018506"/>
      </c:barChart>
      <c:catAx>
        <c:axId val="29619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18506"/>
        <c:crosses val="autoZero"/>
        <c:auto val="1"/>
        <c:lblAlgn val="ctr"/>
        <c:lblOffset val="100"/>
        <c:noMultiLvlLbl val="0"/>
      </c:catAx>
      <c:valAx>
        <c:axId val="230185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19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7C11-2577-4FF2-8121-0B8E217E9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E71F-CB41-4D83-8452-76A1816F0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2430-EEC8-49A1-8458-CEBC4E31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F4C8-C5F6-4329-9ADF-AED09019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ABD6-6C2C-4EE7-83F7-4A375E9B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073C-94DB-490D-88E3-7E16B929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B821-BB0C-41C6-9C36-BD00E7C7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2605-8CB6-47C7-B016-D2588821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09C8-063B-402F-9D40-4F307105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9F34-0730-42E3-BD5B-A30AE840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80E9-E41F-48BF-974A-A8DBD36B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5CF4-3AAB-4248-8324-BA6CE36D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6F5D8-A6EA-40C7-B82A-BFE3339902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