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70005"/>
        <c:axId val="56579782"/>
      </c:barChart>
      <c:catAx>
        <c:axId val="13870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79782"/>
        <c:crosses val="autoZero"/>
        <c:auto val="1"/>
        <c:lblAlgn val="ctr"/>
        <c:lblOffset val="100"/>
        <c:noMultiLvlLbl val="0"/>
      </c:catAx>
      <c:valAx>
        <c:axId val="56579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70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9CC-F858-48A6-AD1F-FC966AE1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E431-173D-4D5E-963E-CDC48C9C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1091-A23B-492F-B9D9-FD107DAF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267C-A9E0-4BB7-A7B3-D1EFAF29C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C89-E7D8-4D6C-9267-326C01BD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918B-3260-4187-A0BC-A9029DED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2572-F6CC-40EE-AD95-A46554CF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150E-E561-4D95-ACE8-0973A561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517D-2C11-42DE-9D22-C11E2F32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26B-0550-4157-B8B9-F77DAE82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801-82E8-4291-912C-F9098AE8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6DB-D813-48AA-AED4-3617D5E4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AEC44-1230-482E-9912-93DEF747C7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