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47630"/>
        <c:axId val="70022338"/>
      </c:barChart>
      <c:catAx>
        <c:axId val="88447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22338"/>
        <c:crosses val="autoZero"/>
        <c:auto val="1"/>
        <c:lblAlgn val="ctr"/>
        <c:lblOffset val="100"/>
        <c:noMultiLvlLbl val="0"/>
      </c:catAx>
      <c:valAx>
        <c:axId val="700223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47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10C-DB08-4331-9676-F3DF0711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618-4AD5-4F64-AEBE-319CECA5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111-08BF-4B34-A60F-1154FDE6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2E4-B43C-47B6-A8A6-81EB27DF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C5F-1860-4C88-B7BE-074FA136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518-3764-40C6-A26E-4226F014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6A2-A691-45C2-90CB-9A305964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37D-7888-4A45-B902-A182710F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094-4299-4884-9981-C2D92B68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935-86F8-4728-A930-14119131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790-2F44-4EE3-ACEF-B38D8281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A7C-FAB6-452D-A00C-E63DE459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E3034-9A33-4F7F-A90C-98395F3BDF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