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63409"/>
        <c:axId val="59602310"/>
      </c:barChart>
      <c:catAx>
        <c:axId val="91263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02310"/>
        <c:crosses val="autoZero"/>
        <c:auto val="1"/>
        <c:lblAlgn val="ctr"/>
        <c:lblOffset val="100"/>
        <c:noMultiLvlLbl val="0"/>
      </c:catAx>
      <c:valAx>
        <c:axId val="59602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63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79D-7C06-4DC1-AA55-51A63018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43A-8390-4017-B668-5EE4846A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DA1-042C-4542-85A2-771A0379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B69-FCED-4E90-8DD8-A1AEFD52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0AA-F842-4D98-96AD-F3FCE329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F16-4440-419F-A29C-8C5B0EF5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6D7-8D79-4794-A05A-D21B44F0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537-0B09-49D1-9572-5404F46C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4B6-8664-4811-B407-3541FE8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1AD-1457-45B1-87CC-8D6D78B0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E5A-DF85-4DEE-946D-73DD2C4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E04-A386-4323-AADA-67427B0D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E11FB-2446-4BAB-A56E-B41736EDC9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