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59624"/>
        <c:axId val="47262667"/>
      </c:barChart>
      <c:catAx>
        <c:axId val="96359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62667"/>
        <c:crosses val="autoZero"/>
        <c:auto val="1"/>
        <c:lblAlgn val="ctr"/>
        <c:lblOffset val="100"/>
        <c:noMultiLvlLbl val="0"/>
      </c:catAx>
      <c:valAx>
        <c:axId val="47262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59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E2C-90E8-423D-A608-A5B6EA3B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A73-EA06-4063-AD75-EF4089E1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E07-245E-4209-9367-B7F3388E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665-0FCC-4D72-891B-4DCA5139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9AE-5D71-4E60-8ED1-2A013092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A90-1F6C-45C8-AD96-DD1A8F76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48E-A742-4701-BDEA-1EE498A8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725-38C9-437F-9E6D-337D897C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A06-538C-43DD-985E-BEDFBF4E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594-106D-4EA1-9C8F-80A79788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92E-A2AF-4A52-AD58-1C8FB07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472-91F9-482B-AC62-B7E063ED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6ED97-7858-4FD5-BCA9-64456AA9D7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