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82639"/>
        <c:axId val="89971785"/>
      </c:barChart>
      <c:catAx>
        <c:axId val="26782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71785"/>
        <c:crosses val="autoZero"/>
        <c:auto val="1"/>
        <c:lblAlgn val="ctr"/>
        <c:lblOffset val="100"/>
        <c:noMultiLvlLbl val="0"/>
      </c:catAx>
      <c:valAx>
        <c:axId val="89971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82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134-A191-4AD2-9A38-CB173D8D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4AA-FDDB-42B6-8F1C-2794D3A8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F63-D105-49A3-A47B-99C9FCD4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6D4-15CD-41B6-96A5-7A4942FC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2A4-1405-4616-838D-D882339D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B6A-BCE0-450C-9128-F3F1C7C3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B03-05B6-4432-B171-0BFA7BD9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BF3-DB88-4C59-8CB4-CA29AED1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9B7-451E-4AA8-9095-4C4F921A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E0E-F654-4972-B62E-03FE54C6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436-0098-42ED-8082-9D9039AF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6F1-9C84-4645-806B-EDBF8BD7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816CA-F42D-48B1-8528-E377937335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