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082239"/>
        <c:axId val="57960409"/>
      </c:barChart>
      <c:catAx>
        <c:axId val="290822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960409"/>
        <c:crosses val="autoZero"/>
        <c:auto val="1"/>
        <c:lblAlgn val="ctr"/>
        <c:lblOffset val="100"/>
        <c:noMultiLvlLbl val="0"/>
      </c:catAx>
      <c:valAx>
        <c:axId val="579604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822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9B49-FCE1-4E64-82E3-67F0539D5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F602-238D-4774-949D-0FB8DA19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6113-7240-427F-9E5C-570EB62B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CFCA-9B5F-434C-8533-6435733E7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1AB1-2BF4-463D-B3C0-7A311D4D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8827-C7DF-446F-8243-E0C7A620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E5BB-908D-426D-A09A-330F7E26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8534-3533-40F9-BBD6-89AFE6C4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E4C9-F8F9-43F5-BD3F-D3B44C9F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24E8-13D9-4F2D-988A-71DD7C11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3034-7A1D-412C-8983-6691B555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0BEC-1860-411E-89D7-4519154A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B9EE3-EE3D-4FEE-BF90-37ED7D9124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