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37393"/>
        <c:axId val="52261423"/>
      </c:barChart>
      <c:catAx>
        <c:axId val="39537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61423"/>
        <c:crosses val="autoZero"/>
        <c:auto val="1"/>
        <c:lblAlgn val="ctr"/>
        <c:lblOffset val="100"/>
        <c:noMultiLvlLbl val="0"/>
      </c:catAx>
      <c:valAx>
        <c:axId val="52261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7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53F-2E1A-44DF-8207-00D5BFEA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CF9-F10F-48B0-8EBA-64EFEBBC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E07-0FE6-4870-B140-D49410F3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E10-9323-423B-93F7-BCCEC95F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49D-AE23-4643-9BAE-F95F3A29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707-965A-4DDC-9F81-F1196D1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430-F3E3-4548-93BD-2B77371D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F0F-4BA6-473D-9B50-8D70313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F65-1DE2-4699-9596-B88607A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FAB-68FC-436D-8B95-B5D07EF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F11-02C6-4F5C-841E-69EC431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FF2-83DF-4DD9-85E2-31F0030E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34A59-43BC-41BD-B265-BA0B46585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