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30452"/>
        <c:axId val="17538410"/>
      </c:barChart>
      <c:catAx>
        <c:axId val="43230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38410"/>
        <c:crosses val="autoZero"/>
        <c:auto val="1"/>
        <c:lblAlgn val="ctr"/>
        <c:lblOffset val="100"/>
        <c:noMultiLvlLbl val="0"/>
      </c:catAx>
      <c:valAx>
        <c:axId val="1753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30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B14-61ED-4771-A62B-044E25AF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020-577A-457A-93F8-0B90A60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C7D-9D6E-40E4-9FBF-C654C434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4B6-CDB9-4A48-8894-1325A699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1EF-5236-4CB8-8FC1-51FFDDB9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D70-529B-4822-B2B4-2D916CC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028-4B5A-4D43-BCA4-AB86439B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FB7-E013-45CD-994E-A1741D7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6F5-E26B-4D02-A745-81374C4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3E6-EF73-43E4-B62E-66AA6EA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D75-AF32-4453-A46F-FA9C4D6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F87-DFB6-4F00-B1A7-29E990B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FDE72-E744-4309-BB86-B162FC3AD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