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664717"/>
        <c:axId val="53376591"/>
      </c:barChart>
      <c:catAx>
        <c:axId val="376647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76591"/>
        <c:crosses val="autoZero"/>
        <c:auto val="1"/>
        <c:lblAlgn val="ctr"/>
        <c:lblOffset val="100"/>
        <c:noMultiLvlLbl val="0"/>
      </c:catAx>
      <c:valAx>
        <c:axId val="533765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647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17A1-941A-4BC0-97C8-74BE416B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AB96-1E1C-45E8-A569-2F5378C2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AF53-3930-4DAF-950C-BF0071EE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3C8-8580-4267-8B0B-55697D0D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A5B6-6C20-4680-A050-02994529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3AD0-D8B9-4B39-AEF0-E09A42D1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5E78-1C41-4057-82AA-ABC567ED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DB88-ABB1-411D-B894-5C0ACB49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B135-FBCB-459F-9AAA-84C161E6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F150-1DE9-49F8-9ACB-B47E2F69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F3DF-288E-4BF8-AAA6-4EB585B8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9D51-72A9-4D18-AC8E-D9D1A3B0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500A7-5AB9-409B-8FD8-3D8E87911F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