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91525"/>
        <c:axId val="55121321"/>
      </c:barChart>
      <c:catAx>
        <c:axId val="9429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21321"/>
        <c:crosses val="autoZero"/>
        <c:auto val="1"/>
        <c:lblAlgn val="ctr"/>
        <c:lblOffset val="100"/>
        <c:noMultiLvlLbl val="0"/>
      </c:catAx>
      <c:valAx>
        <c:axId val="55121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249-BE60-46B6-8C9E-E3875745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4F5-DF99-4639-84C9-5785457F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D36-C4D2-4E1E-B5DF-BB4AE69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495-3620-4180-8190-FBCC7BE2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EBB-EF17-43E6-82CE-C4B0195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349-72F6-410C-85C4-E7E5EE46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CDC-06B9-4BEA-ABD1-2F0B53A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1C3-920A-482E-BF68-30F7A821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58D-7F4D-4FD2-A6D8-C341791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091-E00A-45AF-AFA1-F0C0F34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401-D0F2-4436-857E-03C5527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694-8521-4D64-9CFC-375F546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F8159-F0F6-4211-9B2E-39AF08120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