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898654"/>
        <c:axId val="81069679"/>
      </c:barChart>
      <c:catAx>
        <c:axId val="60898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69679"/>
        <c:crosses val="autoZero"/>
        <c:auto val="1"/>
        <c:lblAlgn val="ctr"/>
        <c:lblOffset val="100"/>
        <c:noMultiLvlLbl val="0"/>
      </c:catAx>
      <c:valAx>
        <c:axId val="810696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98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C67B-7B8F-4D96-8CF9-01149BB1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3EDB-9F95-4CBC-97F4-DD602986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6FCC-6556-43A4-92F4-ED8B5764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2174-0D49-4AAF-94AC-8908EA1D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914F-F464-4544-871F-56195F82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0FDE-7E66-47F7-9A85-7B6431E4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23E3-8BF5-4042-9ED4-984C9335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CC1A-902E-4C81-B890-3B3AE118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5D2A-7363-41AB-9599-A2ECE31A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BC9B-548D-4021-A55B-CBCC5B48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3F31-C75A-4BAD-85D3-905115A4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420E-AAA6-4B5F-AB8B-4E5301B9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94DE6-BAB4-45A7-B015-31E9319544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