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09080"/>
        <c:axId val="2289686"/>
      </c:barChart>
      <c:catAx>
        <c:axId val="46090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9686"/>
        <c:crosses val="autoZero"/>
        <c:auto val="1"/>
        <c:lblAlgn val="ctr"/>
        <c:lblOffset val="100"/>
        <c:noMultiLvlLbl val="0"/>
      </c:catAx>
      <c:valAx>
        <c:axId val="22896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090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307E-6590-4FB7-8459-963C093C0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9E70-6C51-4DDA-B7E8-0B828CAB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5202-27B2-4E37-97FF-8418140E3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DB76-C968-44CD-B6D6-2BE96499F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8A48-3F5D-4E06-808F-218DA238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EF24-837A-404B-80D9-7D352D34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CFEC-927B-4FEB-9488-FDA32A41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2526-3A5E-4056-A571-A2DB29A2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C0BA-5460-4C3E-870C-A7F93CB2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B052-293C-417E-A9DA-9F60A864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9BBE-25FE-4B5D-B21D-0D8B8854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23D3-0D2C-41DE-9587-7B78B339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3C0EDC-C4E7-4D6F-960B-E526A3D9D3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