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22170"/>
        <c:axId val="34222679"/>
      </c:barChart>
      <c:catAx>
        <c:axId val="85422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22679"/>
        <c:crosses val="autoZero"/>
        <c:auto val="1"/>
        <c:lblAlgn val="ctr"/>
        <c:lblOffset val="100"/>
        <c:noMultiLvlLbl val="0"/>
      </c:catAx>
      <c:valAx>
        <c:axId val="34222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22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992-22EF-4AFC-8197-9DA234B2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9C0-3A09-4DD6-811A-7485012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6D4-7073-47E7-974A-C6B86706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781-02C5-4833-9B19-FFE8638A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FA6-20D5-4A83-AEB1-4D944FF7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794-812E-49C6-B7A2-39968102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ED0-4598-44A8-A3D8-2C72D9F8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DEB-AD7F-4A05-B35E-5349C89E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F9F-B3F3-44C5-94E2-8661B8C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E71-AFE5-45F5-84E4-CF1375A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A1C-9F44-4865-A3F1-F7EA7A68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35C-395B-43DE-BC53-513B7CC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11E73-0A7D-4443-B4C5-26BDDBD027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