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75774"/>
        <c:axId val="58794957"/>
      </c:barChart>
      <c:catAx>
        <c:axId val="977757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94957"/>
        <c:crosses val="autoZero"/>
        <c:auto val="1"/>
        <c:lblAlgn val="ctr"/>
        <c:lblOffset val="100"/>
        <c:noMultiLvlLbl val="0"/>
      </c:catAx>
      <c:valAx>
        <c:axId val="58794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757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8F1-B5A4-4A69-BAA1-8E5EA2D6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A71-10C3-4D57-8813-5F34DE3D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3D60-F9A6-4F0B-85C2-1A11D34A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9EE-0DDE-4A34-9BBE-221582EA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59D-4D23-470C-8258-8E6CB3F8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181-4D7E-4E1B-A150-E130EF7E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65C-8EFA-4524-85D7-09E3B112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B8F-30AB-4684-9494-CB78735A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0ED7-96BF-4450-B13F-270068E8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C03-D1DA-4E4D-B527-619EEE7F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E5B-6B39-4666-B289-C1E8A241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6264-E0BE-48CF-9BBC-63449751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DA6A1-B92C-4D3D-9A14-36C066948F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