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80552"/>
        <c:axId val="52756264"/>
      </c:barChart>
      <c:catAx>
        <c:axId val="42380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56264"/>
        <c:crosses val="autoZero"/>
        <c:auto val="1"/>
        <c:lblAlgn val="ctr"/>
        <c:lblOffset val="100"/>
        <c:noMultiLvlLbl val="0"/>
      </c:catAx>
      <c:valAx>
        <c:axId val="52756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80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E6A-C663-4ECE-8875-BBBE9E6D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F0F-0C83-47BB-95B2-B0039C36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453-A0AE-4FB3-8688-C1C34FD6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F348-AC54-468C-A1BE-874E675D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FE8-C96B-4854-861D-05657C0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D69-1375-479D-8175-2D521D2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8F3-7410-4A16-9D9B-73D189C6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8DCE-7C01-4AD7-90B3-7BC826D9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49D-A316-461D-812B-66EBBB16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389-9273-4AA6-86DC-1A7136B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86C-AB28-4088-8C12-3BEDF415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C6C-99AC-4F05-ABA5-A9D42BE6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581E-2555-4FF4-B3B1-7A026E829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