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37419"/>
        <c:axId val="8243482"/>
      </c:barChart>
      <c:catAx>
        <c:axId val="15637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482"/>
        <c:crosses val="autoZero"/>
        <c:auto val="1"/>
        <c:lblAlgn val="ctr"/>
        <c:lblOffset val="100"/>
        <c:noMultiLvlLbl val="0"/>
      </c:catAx>
      <c:valAx>
        <c:axId val="8243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7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5BA-7C99-4346-87E8-462B95D6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C43-4B54-4BA3-98AE-BBD820D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271-D7B4-442F-A125-24B6561D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A81-B0CC-48F7-B631-8D3C0768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F28-91D0-4BDD-B2DC-075FCCD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202-DE45-4FD7-86E3-B0E59061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25C-0D4B-4F45-AE74-46BF5A7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929-317F-44DC-B6F8-CB7F2A7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9FF-4112-40A8-8A55-88A828D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152-BB9F-4691-909A-224F334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119-E5FA-4FE5-9EC6-3E2A611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07F-B194-4B58-986D-7E8733E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7E65C-226A-4527-A29C-10BFC78D6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