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7539"/>
        <c:axId val="17233866"/>
      </c:barChart>
      <c:catAx>
        <c:axId val="5997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33866"/>
        <c:crosses val="autoZero"/>
        <c:auto val="1"/>
        <c:lblAlgn val="ctr"/>
        <c:lblOffset val="100"/>
        <c:noMultiLvlLbl val="0"/>
      </c:catAx>
      <c:valAx>
        <c:axId val="17233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7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33A-4AB4-464E-8F76-55647D14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E6F-E4B6-4218-A29E-387FBD13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50F-97CB-45A6-A799-278FC5CC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AE5-46FE-4368-B9DB-401D11E2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AAD-36D7-4C17-A638-47B0AF7D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94B-6302-4DD6-A172-513B2538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9A58-EDE2-483A-892C-07C7ABDC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7D1-CDD7-47AD-B8B3-751061BA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145A-1AFF-45BF-B75C-A74DF08A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4C6-796D-486D-BF1F-CC75FE21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261-192A-408E-B163-7A5F1C63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570-7E65-40F5-9FCB-4D1E134C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0FFE1-5B5F-4080-8220-48E9CE375C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