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25362"/>
        <c:axId val="8035780"/>
      </c:barChart>
      <c:catAx>
        <c:axId val="26425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5780"/>
        <c:crosses val="autoZero"/>
        <c:auto val="1"/>
        <c:lblAlgn val="ctr"/>
        <c:lblOffset val="100"/>
        <c:noMultiLvlLbl val="0"/>
      </c:catAx>
      <c:valAx>
        <c:axId val="8035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25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F56-B045-4EAF-8222-8DD50FB8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819-2484-4019-AB4C-F0850EC3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5CE-E97F-47C4-B5C1-FB9BEAE6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6CC-3F39-410A-831A-8BE5FD7D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710-AA50-471E-A28B-CE85960B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602-BA07-4F7A-A363-2C99C481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E75-8A85-4EB1-8537-CC555CD7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F78-CB8F-4400-9B3F-94AD531E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F8F-F611-4E00-AE04-E60D88CB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3A6-9500-40F2-9D24-3EE9A74B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004-0835-4164-9F10-C85C2EB5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8CC-0173-4E32-9013-C2C6DB92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E988A-D1C6-4407-BFBC-2EED5E84B7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