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57201"/>
        <c:axId val="52642587"/>
      </c:barChart>
      <c:catAx>
        <c:axId val="614572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42587"/>
        <c:crosses val="autoZero"/>
        <c:auto val="1"/>
        <c:lblAlgn val="ctr"/>
        <c:lblOffset val="100"/>
        <c:noMultiLvlLbl val="0"/>
      </c:catAx>
      <c:valAx>
        <c:axId val="526425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572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6B5-7437-43D9-AEF2-E4969CB8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099-3ACF-4523-9C85-3B65AFDF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D083-B3EE-41DB-AFC2-4FA7C23B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11C9-6C1E-4A70-B7CB-88185003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1B6-93B8-41C8-8C4D-129F2AD6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2972-5E03-4539-BBDA-AD004F44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C0D1-F14F-4828-A984-7E7BFB42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9B4-3B66-4BB8-BE9A-89B27C3E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13D3-E8D6-4543-AAE4-E5C0AAEB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84CA-FF8B-48EC-9F2F-AA444DA4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3C2-6AA7-4DFC-B6F2-C78A20E6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D2A-5E19-4930-B204-D7F49DDA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834DD-AF90-4DB1-BDDE-82C67C2C69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