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74145"/>
        <c:axId val="20627548"/>
      </c:barChart>
      <c:catAx>
        <c:axId val="16974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7548"/>
        <c:crosses val="autoZero"/>
        <c:auto val="1"/>
        <c:lblAlgn val="ctr"/>
        <c:lblOffset val="100"/>
        <c:noMultiLvlLbl val="0"/>
      </c:catAx>
      <c:valAx>
        <c:axId val="20627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4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45D-BBA6-4C66-A733-2DD7687B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DE3-4E05-45EF-98F5-BB1325D9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26E-D7CF-4E0B-9B65-FD5C5F2C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5FE-BECB-4B9C-93B5-47570641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CD5-D532-45E3-B7F4-7041DBF4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078-57FA-470A-A8F6-58A4536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0CF-5F0F-4696-BEE6-C778B4B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EFE-032F-4041-A7D9-6AC31B18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E52-95ED-407D-9CA9-57DAB1A2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B17-17AB-4436-B05D-39BD574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0DE-28DB-443C-88D9-323E13E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1E3-1B7F-4CBB-8B1A-DAE03EF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1009-D9D6-4E57-B0F8-A0CB482546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