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267242"/>
        <c:axId val="55314325"/>
      </c:barChart>
      <c:catAx>
        <c:axId val="802672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14325"/>
        <c:crosses val="autoZero"/>
        <c:auto val="1"/>
        <c:lblAlgn val="ctr"/>
        <c:lblOffset val="100"/>
        <c:noMultiLvlLbl val="0"/>
      </c:catAx>
      <c:valAx>
        <c:axId val="553143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672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B9F4-4595-44CF-8715-17907134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BF59-FA2E-4DA6-A8DC-0111AAA7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A7BD-A4BF-4EA7-8B80-BE73D528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FB48-9E2E-41E7-9B5E-4EBBD6BD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1CCC-55B0-4FDC-9BBD-9CD11A03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4AC5-088A-431D-8A10-BD0D9214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D801-BDB2-4F4B-9F2D-AB08B7B7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1AB9-445F-4DCD-927F-12365131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B6AE-CA83-4F73-AD25-30780244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9E7-EA85-42F5-89C6-2A54158E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24D6-9337-4C20-8965-9DB27F4F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379E-D808-48A3-AC69-CC8BC337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8C28E-69C4-427E-ACF1-B43679E4CC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