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27819"/>
        <c:axId val="93509419"/>
      </c:barChart>
      <c:catAx>
        <c:axId val="19627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09419"/>
        <c:crosses val="autoZero"/>
        <c:auto val="1"/>
        <c:lblAlgn val="ctr"/>
        <c:lblOffset val="100"/>
        <c:noMultiLvlLbl val="0"/>
      </c:catAx>
      <c:valAx>
        <c:axId val="93509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27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DA0-27E4-4D5E-BB38-7655142E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6A2-40BE-4108-ACE0-E7DD8001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9A6-4822-461F-A9CD-191D05C8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4F3-0FEA-4E35-8CE4-D0417F3D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720-9D54-4E32-A975-8705F55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F76-C7F1-4353-9B18-D71EC8B5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703-84F9-4632-A790-4F657AFB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7EA-FD54-44CA-91F3-EE7704F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AA6-AD48-4B67-99AF-19CB447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65B-818D-4C8B-B10D-3A66D72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D72-A7CA-40A0-AE0F-ECE189A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CA5-ADFE-4DB7-82A4-6AF41BF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6A150-EB22-4B28-BF2C-54733111F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